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0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B82-5219-43BD-838A-1C3CAD44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AB6-74F0-4C17-844E-177ABBD8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054-2FED-4F1C-9352-9FFD850E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B25-4EE7-4787-BE93-2BBCFF7B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20A-45B7-438E-A934-B535A7DF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398-4EE6-4687-A0D7-954AE0D1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A85-B8FE-4AFE-8804-FC70CBC6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5F5-8C83-4CA5-AAFC-72A05DC4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4E8-6943-4905-BF79-03498309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2274-EB41-4AD1-A982-A596B48D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A93-4801-4602-B26C-D7A5511A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E24-AA2A-4CD0-AAC6-FD1995A8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5324-3081-4C14-A4B3-AA8A5B31F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ope-Intercept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7240" y="2093760"/>
            <a:ext cx="40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riting Linear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29000"/>
            <a:ext cx="79246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Equ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equation whose graph is a straight line when grap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-Interc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here a line crosses the y-axis (0,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pe-Intercept For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lope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   y-intercept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81952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88620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1000" cy="5850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95280" y="60958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3200400"/>
            <a:ext cx="5105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lain how changing the value of m affects the graph of a line. Explain how changing the value of b affect the graph of a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714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16765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3x – 6                                 Y = -4x + 7                         2x + 3Y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78292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108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2590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pe = -3 and y-int = 5                   slope = 2/3 and y-int = 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69343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2388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01000" cy="1633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2057400"/>
            <a:ext cx="1676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53341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81880" cy="4227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828800"/>
            <a:ext cx="2743200" cy="3657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1828800"/>
            <a:ext cx="2514600" cy="3429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1828800"/>
            <a:ext cx="2743200" cy="3657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04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raphing Linear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28195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153280" cy="995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43200" y="2133720"/>
            <a:ext cx="1981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51055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9:58:37Z</dcterms:created>
  <dc:creator>BRSD</dc:creator>
  <dc:description/>
  <dc:language>en-US</dc:language>
  <cp:lastModifiedBy>Susannah Graham</cp:lastModifiedBy>
  <dcterms:modified xsi:type="dcterms:W3CDTF">2009-08-04T21:20:37Z</dcterms:modified>
  <cp:revision>5</cp:revision>
  <dc:subject/>
  <dc:title>Lesson 6.2 Slope-Intercept Form</dc:title>
</cp:coreProperties>
</file>